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57D-1ECA-4645-BC11-A53D9DE1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548-D9B2-437B-8CA0-00CCBC2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7FF-6E9D-4F42-B130-CAA3C3D2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05C-D395-472E-8CE5-9E654539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671-5B54-44B1-AEFF-15439E0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DE21-F49A-4258-A2E7-4660B08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F89-7C37-44E4-A252-FFE7E2E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D55-DA97-4A19-AEC6-F323994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B150-B61B-49C4-9F28-BAD7DA8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93BE-7086-40C9-B73F-749EC79C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BBC-852B-4986-9E3F-4CB7440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DB1-77AC-46F1-BB5A-B355492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1153-273B-4B8E-95AB-54313E3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9ABC-AA8D-4778-9F19-D578DC6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CA3D-78D4-4ACD-A76B-6097BF8F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EFC-206E-4752-BB60-FBFF5101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E9D9-822B-4EAC-80B5-70D2EAEB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4FC-A71C-4999-B211-FBB051B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9DA-4479-4B6B-A680-78E2684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DD2-7520-4279-8C2F-A18652D3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240-2DE7-44FB-97A2-A3F55D41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5EE-C5B4-4526-8C09-15C9B32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B36-6C6A-4FE5-9077-B240984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306-109D-4761-9D3A-E1FB720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D511-09DA-48B5-89A7-F676423CD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A4F-C65F-4115-9282-639248C28A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и система обозна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 X для приборов с обратной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остью (основание корпуса - катод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ос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обозначающее класс по по­вторяющемуся импульсному напряжению в закры­том состоянии (сотни воль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Дев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цифр, обозначающая соче­тание классификационных параметров: для низкочастотных приборов (аббревиатура «зс» означает запертое состояние, а аббревиатура «кр» критическое значение);  и  для высо­кочастотных прибо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для быстродействующих приборов; для симметричных ти­ристоров (симисторов) и тиристоров-диодов вместо (du3C/dt)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 классификационным параметром являет­с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ОПТОЭЛЕКТРОННЫЕ ПРИБОР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ми называют приборы, которые чувствительны к электромагнитному излучению в видимой, инфракрасной и ультрафиолетовой областях, а также при­боры, производящие или использующие такое 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Излучающий диод (светодиод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ий диод, работающий в видимом диапазоне волн, часто называю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излучающим, или светоди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устройство, характеристики, параметры и систему обозначений излучающих ди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хематическое изображение структур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его диода представлено на рис. 1.120, а; его условное графическое обозначение - на рис. 1.120, 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ение возникает при протекании прямого тока диода в результате рекомбинации электронов и дырок 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и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ерехода и в областях, примыкающих к указанной области. При рекомбинации излучаются фот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и параметры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излучающих диодов, работающих в видимом диапазоне (длина волны от 0,38 до 0,78 мкм, частота около, но меньше 1015 Гц), ши­роко используются следующ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03280" y="1700280"/>
          <a:ext cx="629604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2960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злучающих диодов, работающих не в видимом диапазоне, используют характеристики, отражающие за­висимость мощности из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 тока ди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м яркостную характеристику для светоизлучающего диода ти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2А (рис. 1.121). Цвет свечения это­го диод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– красны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63640" y="1628640"/>
          <a:ext cx="53784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3784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419640" y="5445000"/>
            <a:ext cx="172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график зависимости силы света от тока для свето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A (рис. 1.122) (цвет свечения - крас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зону возможных положений (рис. 1.123) графика зависимости мощности излучения от тока для 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9A, работающего в инфра­красном диапазоне (длина волны 0,93...0,96 м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ускаемые с 1980 г. тиристоры имеют классифика­цию и систему обозначений, установленные ГОСТ 20859.1-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92360" y="1716120"/>
          <a:ext cx="48308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16120"/>
                    <a:ext cx="48308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03640" y="5229360"/>
            <a:ext cx="1727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38640" cy="28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ем для диода типа AJ119А его некоторые пара­мет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нарастания импульса излучения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лее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спада импульса излучения - не более 1500 н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прямое напряжение при i более 3 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й максимально допустимый прямой то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t &lt; +85°С - 200 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окружающей среды -60...+85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Система обознач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о существующая система обозначений предполагает использование двух или трех букв и трех цифр, например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 или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331 и приве­дена в [3]. Первая буква указывает на материал, вторая (или вторая и третья) - на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руктивное исполнение: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единичный светодиод, ЛС - ряд или матрица светодиодов. Последующие цифры (а иногда буквы) обознача­ют номер разработки. Нельзя не признать такую систему несоверш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настоящее время источники излучения обозначают­ся как частный случай индикаторов. Современные обозна­чения индикаторов содержат семь элементов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уква И, обозначающая принадлеж­ность прибора к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синтезирующим индикаторам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вид индикато­ра: Н - вакуумные накаливаемые;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акуумные элект­ролюминесцентные; Ж - жидкокристаллические; П - полупроводниковые; Э - электролюминесце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Т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ющая отобража­емую информацию: Д - единичная; Ц - цифровая; В - буквенно-цифровая; Т - шкальная; М - мнемоническая; Г - граф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указывающее на поряд­ковый номер разработки: номер с 1-го по 69-й - индика­торы без встроенного управления; с 70-го по 99-й - со встроенным упра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а, обозначающая принадлеж­ность индикатора к одной из классификационных групп приборов, изготовленных по общему технологическому процессу. Используются буквы русского алфавита от А до Я (не употребляются 3, О, Ы, Ь, Ъ, Ш, 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обь или произведение, характери­зующее информационное поле индикатора (кроме единич­ных индикаторов). Для одноразрядных и многоразрядных сегментных индикаторов - дробь, числитель которой число сегментов, знаменатель - число разрядов. Для од­норазрядных и многоразрядных матричных индикато­ров - дробь, числитель которой - число разрядов, зна­менатель - произведение числа элементов в строке на число элементов в столбце. Для матричных индикаторов без фиксированных знакомест - произведение числа элементов в строке на число элементов в столбце.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нических и шкальных индикаторов шестой элемент указывает число элементов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ксплуатации находятся тиристоры, система обозначений кото­рых регламентировалась стандартами (ГОСТ 10862-72, ГОСТ 14069-72 и др.), в настоящее время отмененными. В основу обозначений тиристоров положен буквенно-цифровой код, состоящий из четырех элементов (ГОСТ 10862-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цвет свечения. Для одноцветных индикаторов: К - красный,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еле­ный, С - синий, Ж - желтый, Р - оранжевый, Г - го­лубой (для одиночных и полупроводниковых индикаторов всех видов). Для многоцветных индикаторов всех видов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резистор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резистором называют полупроводниковый рези­стор, сопротивление которого чувствительно к электро­магнитному излучению в оптическом диапазоне спектра. Дадим схематическое изображение структуры фоторези­стора (рис. 1.124, а) и его условное графическое обозна­чение (рис. 1.124, 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771640" y="765000"/>
          <a:ext cx="359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765000"/>
                    <a:ext cx="359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зисторы часто характеризуются зависимостью то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освещенности Е при заданном напряжении на резисторе. Это так называемая люкс-амперная характери­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м такую характеристику для фоторезистора типа ФСК-Г7, который работает в видимой части спект­ра (рис. 1.12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340000" y="1341360"/>
          <a:ext cx="442908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4290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780000" y="5516640"/>
            <a:ext cx="1726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Часто используют следующие параметры фоторезисторо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2480" y="1412640"/>
            <a:ext cx="829152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инальное темновое (при отсутствии светового потока) сопротивление (для ФСК-Г7 это сопротив­ление равно 5 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ую чувствительность (чувствительность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интегральной, так как ее определяют при освещении фоторезистора светом сложного спект­рального состава). Интегральная чувствительность (токовая чувствитель­ность к световому потоку) S определяется выражение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называемый фототок (это разность между то­ком при освещении и током при отсутствии освещен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оторезистора ФСК-Г7 S- 0,7 А/л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32360" y="4221000"/>
                <a:ext cx="5032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r>
                          <m:t xml:space="preserve">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03280" y="465300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5300640"/>
                <a:ext cx="1620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дио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им устройства, основные физические процессы, характеристики и параметры фотод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ройство и основные физические процесс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образим упрощенную структуру фотодиода (рис. 1.126, а) и его ус­ловное графическое обозначение (рис. 1.126, 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128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с. 1.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425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ческие процессы, протекающие в фотодиодах, носят обратный характер по отношению к процессам, протекающим в светодиодах. Основным физическим яв­лением в фотодиоде является генерация пар электрон- дырка в области перехода и в прилегающих к нему областях под действием изл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ация пар электрон-дырка приводит к увеличению обратного тока диода при наличии обратного напряжения и к появлению напряж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 между анодом и катодом при разомкнутой цепи. Причем в соответствии со сделан­ным замечанием о разделении электронов и дырок (дырки переходят к аноду, а электроны - к като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ервы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 или цифр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ет исходный материал: Г, или 1, - германий; К, или 2, - кремний; А, или 3, - арсенид гал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41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прибора: Н - диодный тиристор (динистор); У - триодный тирис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порядковый номер модификации (разработк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классификационный размер корпуса приб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0 до 5), обозначающая кон­структивное ис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равное значению максималь­но допустимого среднего тока в открытом состоянии для тиристоров, лавинных тиристоров, оптотиристоров, комбинированно выключаемых тиристоров, максимально допустимого импульсного тока для импульсных тиристоров, максимально допустимого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го тока для симисторов и импульсного запираемого тока для запираемых тиристоров. Для тиристоров-диодов шестой элемент состоит из дроби, в числител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й - значение максимально допустимого среднего тока в открытом состоянии, а в знаменателе - значение максимально допустимого среднего тока в обратном проводяще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25:23Z</dcterms:created>
  <dc:creator>student</dc:creator>
  <dc:description/>
  <dc:language>en-US</dc:language>
  <cp:lastModifiedBy>student</cp:lastModifiedBy>
  <dcterms:modified xsi:type="dcterms:W3CDTF">2012-04-20T05:52:12Z</dcterms:modified>
  <cp:revision>5</cp:revision>
  <dc:subject/>
  <dc:title>Классификация и система обозначений</dc:title>
</cp:coreProperties>
</file>